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3038-B270-4EA1-A169-097B98CB3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696A-9B9E-49C4-86A2-C08217A41E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important question about what is being accomplished and lea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mphasis on gathering data that can be used to identify necessary mid-projec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ong evaluation design, with comparison groups and well-chosen samples, that clearly address the main questions and rules out threats to val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ound data collection instruments, appropriate to the questions add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procedures to assure the evaluation sis carried out objectively and sources of bias are eli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alysis appropriate to questions asked and data collection methodologies beoing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asonable budget given the size of the project, about 5 to 10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C005-6862-4AA0-BC7F-080BCB9F2C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8ABD-B092-4C9F-B2BA-8158B70C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BB7-DA6D-4982-8F80-D97F5CC0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A18-9F7A-4579-8852-7A7C3B03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FF7-A06E-4426-8F03-29B2D24D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ED85-9A27-45A2-AF48-C089A510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3A01-079E-4F03-8C30-2F8B26AA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E4F4-3100-48DA-AAEC-E418F124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B6F7-D569-4A04-81E5-C5806054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CA62-4A3C-4F05-BA34-311CDCAC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5087-4408-452E-83E4-093766C3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4F31-D26F-420F-937E-78C135D6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219-1B17-4500-B7C7-4009B4F4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4F64-D29D-48A5-AC63-895269FD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D635-34CB-4869-AAA4-6E3AF65D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5D81-224F-4061-83E8-2D9102ED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3586-0501-411A-8B3D-312EE050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5D38-A1B8-4C88-8711-CA36420A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E6B-BCDD-420A-BFFA-764F7C77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E13-93B2-4231-973D-D09BA75E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CD3-7746-44B1-B7F4-85BECC4D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DB5-E595-4D2E-8719-282163D7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423-5E4D-44D3-B86B-01B4BAA2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92B-64D2-4846-8C99-57AAF3DD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BD0-FD16-43DE-BDD6-4A66D4E7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DDA7-6972-4F70-A28F-C713A63110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4400-2236-490E-8F83-51CED52D8A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nsf.gov/pubs/2004/nsf04016/nsf04016_4.htm" TargetMode="External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www.nsf.gov/cgi-bin/getpub?nsf02057" TargetMode="External"/><Relationship Id="rId2" Type="http://schemas.openxmlformats.org/officeDocument/2006/relationships/hyperlink" Target="http://www.nsf.gov/cgi-bin/getpub?nsf97153" TargetMode="External"/><Relationship Id="rId3" Type="http://schemas.openxmlformats.org/officeDocument/2006/relationships/hyperlink" Target="http://oerl.sri.com/" TargetMode="External"/><Relationship Id="rId4" Type="http://schemas.openxmlformats.org/officeDocument/2006/relationships/hyperlink" Target="http://www.flaguide.org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al Science Foundation Project Evaluation and Assessme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240" y="373392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nis W. Su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an E. Th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abama Science Teach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Learn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astlc.ua.ed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Alaba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37339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can be accomplished in different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 single model that can be universally appl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gathered may be quantitative, qualitative, or bo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1033" descr=""/>
          <p:cNvPicPr/>
          <p:nvPr/>
        </p:nvPicPr>
        <p:blipFill>
          <a:blip r:embed="rId4"/>
          <a:stretch/>
        </p:blipFill>
        <p:spPr>
          <a:xfrm>
            <a:off x="2209680" y="457200"/>
            <a:ext cx="65534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ortant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teri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an important question about what is being accomplished and learned in the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s on gathering data that can be used to identify necessary mid-project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a strong evaluation design (e.g. with comparison groups and well-chosen samples) that clearly addresses the main questions and rules out threats to valid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66720" y="1295280"/>
            <a:ext cx="4419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sound data collection instruments, appropriate to the questions addre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procedures to assure the evaluation is carried out objectively and sources of bias are elimin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nalysis appropriate to questions asked and data collection methodologies being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asonable budget given the size of the project, about 5 to 10 perc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SF Expect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rantee will clearly lay out and evaluation plan in the proposa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fine the plan after the awar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 in the final report a separate section on the evaluation, its purpose, and what was f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ome cases a separate report or interim reports may be exp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\\Ua\AA\EDUCATION\BAMAED_IBMAPPS\W32APPS\OFFICE2K\cd2\PFiles\MSOffice\Clipart\photohm\j0145838.jpg"/>
          <p:cNvPicPr/>
          <p:nvPr/>
        </p:nvPicPr>
        <p:blipFill>
          <a:blip r:embed="rId5"/>
          <a:stretch/>
        </p:blipFill>
        <p:spPr>
          <a:xfrm>
            <a:off x="838080" y="4038480"/>
            <a:ext cx="2752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ample RFP - Faculty Early Career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al Content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Summary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ize the integrated education and research activities of the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Project descrip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results from prior NSF sup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specific proposal for activities over 5 years that will build a firm foundation for  a lifetime of integrated contributions to research and edu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n for development should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ives and significance of the research and education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lationship of the research to current knowledge i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utline of the plan; including evaluation of the educational activities on a yearly b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lationship of the plan to career goals and objec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ummary of prior research and educational accomplishme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SF Merit Review Broader Impacts Criterion: Representative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SF criteria relate to 1) intellectual merit and 2) broader impa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riteria: Broader Impacts of the Proposed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activity promote discover, understanding, teaching, training and lear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proposed activity include participants of underrepresented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it enhance the infrastructure for research and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e results be disseminated broadly to enhance scientific and technological understanding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benefits of the proposed activity to socie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vance discovery and understanding while promoting teaching, training and lea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research activities into the teaching of science at all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e in recruiting and professional development of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research based educational materials an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ner researchers and edu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graduate and undergraduat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, adapt, or disseminate effective models and pedagogic approaches to t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. Broaden participation of underrepresented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research and education collaborations with students and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 students from underrepresented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visits and presentations on school camp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 early year scientists and engin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e in developing new approaches to engage underserved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e in conferences, workshops, and field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Enhance infrastructure for research and edu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nd establish collaborations between disciplines and instit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ate and support next generation instrumentation and research and education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and modernize shared research and education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grade the computation and computing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ctivities that ensure multi-user facilities are sites of research and men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. Broaden dissemination to enhance scientific and technological understan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ner with museums, science centers, and others to develop exhi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public and industry in research and education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presentations to broader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data available in a timely ma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 in divers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research and education results in formats useful to policy ma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e in multi- and interdisciplinary conferences, workshops, and research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research with education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aluation and Assessment of National Science Foundation Proj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your present approach and difficulties toward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NSF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perception of evaluation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ore the process and skills associated with proficiently planning a project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stigate difficulties with a case stud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ing your own evalua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. Benefits to soci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linkage between discovery and societal benefit through application of research and education res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ner with others on projects to integrate research into broader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e, interpret, and synthesize research and education results in formats useful to non-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ning Evalu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cessary to assess understanding of a project</a:t>
            </a: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 goals, objectives, strategies and timelin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riteria can also indicate a baseline for measuring suc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lanning Evaluation Addresses the Following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as the project develop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are the stakehold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the stakeholders want to k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activities and strategies that will address the problem which was identifi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will the program be loc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will the program oper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does it cost in relation to outcom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measurable outcomes to be achiev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data be collec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Kinds of 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am Evalu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termines the value of the collection of projec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.g. the Alabama DOE-EPSCoR Progr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ject Evalu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cuses on an individual project and its many components funded under an umbrella of the progra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esearch plan components, educational plan components). It answers a limited number of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ive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tive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end of a major milestone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end of a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029" descr="j0182721"/>
          <p:cNvPicPr/>
          <p:nvPr/>
        </p:nvPicPr>
        <p:blipFill>
          <a:blip r:embed="rId3"/>
          <a:stretch/>
        </p:blipFill>
        <p:spPr>
          <a:xfrm>
            <a:off x="4648320" y="2529000"/>
            <a:ext cx="403848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4582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rmative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es ongoing project activities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pose: assess initial and ongoing project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e regularly at several points in throughout the developmental life of the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in goal is to check, monitor, and improve - to see if activities are being conducted and components are progressing toward projec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191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check to see if all elements in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whether project is being conducted as plan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e early, several times during a life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evaluate outcomes or impact unless you are sure components are operating according to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7960" y="304560"/>
            <a:ext cx="4267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question gui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re appropriate students selected, was the make-up of group consistent with NSF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goal for a more diverse workfor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re appropriate recruitment strategies u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activities and strategies match th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d in the pl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4267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Evalu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progress in meeting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information to learn if benchmarks of progress were met, what impact activities have had, and to determine unexpected develop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throughout life of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ontribute to summative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7960" y="304920"/>
            <a:ext cx="4267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question gui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participants moving toward goals, improving understanding of the research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numbers of students reached increas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gress sufficient to reach goa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tive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es project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success and answ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: Assess the quality and impact of a fully matur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the project successfu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hat extent did the project meet the overall goa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omponents were the most effec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re the results worth the projects c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project replic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s information about outcomes and impacts and the processes, strategies, and activities that led to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ed for decision making – disseminate, continue probationary status, modify, or dis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8320" y="304560"/>
            <a:ext cx="4038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t to have external evaluator who is seen as objective and unbiased or have an internal evaluation with an outside agent review of the design and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ider unexpected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Ac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 small groups of two or t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members will list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evaluation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ifficulties they have recognized in the p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question from one of the listed items  " What is the difficulty?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4648320" y="2459160"/>
            <a:ext cx="40384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aluation Compared to other Data Gathering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differs from other types of activities that provide information on 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information serves different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3"/>
          <a:stretch/>
        </p:blipFill>
        <p:spPr>
          <a:xfrm>
            <a:off x="2895480" y="1523880"/>
            <a:ext cx="5867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tive vs. Summa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the cook tastes the soup, that is formative; when the guest taste the soup, that is summative.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j0182721"/>
          <p:cNvPicPr/>
          <p:nvPr/>
        </p:nvPicPr>
        <p:blipFill>
          <a:blip r:embed="rId1"/>
          <a:stretch/>
        </p:blipFill>
        <p:spPr>
          <a:xfrm>
            <a:off x="4267080" y="2057400"/>
            <a:ext cx="46101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Evaluation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eps in conducting an evaluation (six phas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velop a conceptual model of the program and identify key evaluation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velop evaluation questions and define measurabl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velop an evaluation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llec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alyz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por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ditions to be m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gathered is not perceived as valuable or useful (Wrong questions ask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gathered is not seen as credible or convincing (wrong techniques us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 is late or not understandable (does not contribute to decision making proc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C:\Program Files\Microsoft Office\Clipart\corpbas\j0078824.wmf"/>
          <p:cNvPicPr/>
          <p:nvPr/>
        </p:nvPicPr>
        <p:blipFill>
          <a:blip r:embed="rId4"/>
          <a:stretch/>
        </p:blipFill>
        <p:spPr>
          <a:xfrm>
            <a:off x="4648320" y="2141640"/>
            <a:ext cx="40384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. Develop a Conceptual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029"/>
          <p:cNvSpPr/>
          <p:nvPr/>
        </p:nvSpPr>
        <p:spPr>
          <a:xfrm>
            <a:off x="609480" y="4038480"/>
            <a:ext cx="1295640" cy="38124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033"/>
          <p:cNvSpPr/>
          <p:nvPr/>
        </p:nvSpPr>
        <p:spPr>
          <a:xfrm>
            <a:off x="609480" y="4648320"/>
            <a:ext cx="129564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034"/>
          <p:cNvSpPr/>
          <p:nvPr/>
        </p:nvSpPr>
        <p:spPr>
          <a:xfrm>
            <a:off x="609480" y="5334120"/>
            <a:ext cx="129564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035"/>
          <p:cNvSpPr/>
          <p:nvPr/>
        </p:nvSpPr>
        <p:spPr>
          <a:xfrm>
            <a:off x="609480" y="6019920"/>
            <a:ext cx="129564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036"/>
          <p:cNvSpPr/>
          <p:nvPr/>
        </p:nvSpPr>
        <p:spPr>
          <a:xfrm>
            <a:off x="45720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037"/>
          <p:cNvSpPr/>
          <p:nvPr/>
        </p:nvSpPr>
        <p:spPr>
          <a:xfrm>
            <a:off x="2743200" y="6019920"/>
            <a:ext cx="129528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038"/>
          <p:cNvSpPr/>
          <p:nvPr/>
        </p:nvSpPr>
        <p:spPr>
          <a:xfrm>
            <a:off x="2743200" y="5334120"/>
            <a:ext cx="129528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39"/>
          <p:cNvSpPr/>
          <p:nvPr/>
        </p:nvSpPr>
        <p:spPr>
          <a:xfrm>
            <a:off x="2743200" y="4648320"/>
            <a:ext cx="129528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040"/>
          <p:cNvSpPr/>
          <p:nvPr/>
        </p:nvSpPr>
        <p:spPr>
          <a:xfrm>
            <a:off x="2743200" y="4038480"/>
            <a:ext cx="1295280" cy="38124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041"/>
          <p:cNvSpPr/>
          <p:nvPr/>
        </p:nvSpPr>
        <p:spPr>
          <a:xfrm>
            <a:off x="4800600" y="6019920"/>
            <a:ext cx="129528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042"/>
          <p:cNvSpPr/>
          <p:nvPr/>
        </p:nvSpPr>
        <p:spPr>
          <a:xfrm>
            <a:off x="4800600" y="5334120"/>
            <a:ext cx="129528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043"/>
          <p:cNvSpPr/>
          <p:nvPr/>
        </p:nvSpPr>
        <p:spPr>
          <a:xfrm>
            <a:off x="4800600" y="4648320"/>
            <a:ext cx="129528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044"/>
          <p:cNvSpPr/>
          <p:nvPr/>
        </p:nvSpPr>
        <p:spPr>
          <a:xfrm>
            <a:off x="4800600" y="4038480"/>
            <a:ext cx="1295280" cy="38124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45"/>
          <p:cNvSpPr/>
          <p:nvPr/>
        </p:nvSpPr>
        <p:spPr>
          <a:xfrm>
            <a:off x="2438280" y="2971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6"/>
          <p:cNvSpPr/>
          <p:nvPr/>
        </p:nvSpPr>
        <p:spPr>
          <a:xfrm>
            <a:off x="4419720" y="297180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rt-Term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7"/>
          <p:cNvSpPr/>
          <p:nvPr/>
        </p:nvSpPr>
        <p:spPr>
          <a:xfrm>
            <a:off x="6629400" y="29718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ng-Term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048"/>
          <p:cNvSpPr/>
          <p:nvPr/>
        </p:nvSpPr>
        <p:spPr>
          <a:xfrm>
            <a:off x="7162920" y="4267080"/>
            <a:ext cx="1295280" cy="38124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049"/>
          <p:cNvSpPr/>
          <p:nvPr/>
        </p:nvSpPr>
        <p:spPr>
          <a:xfrm>
            <a:off x="7162920" y="4952880"/>
            <a:ext cx="1295280" cy="38124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050"/>
          <p:cNvSpPr/>
          <p:nvPr/>
        </p:nvSpPr>
        <p:spPr>
          <a:xfrm>
            <a:off x="7162920" y="5638680"/>
            <a:ext cx="1295280" cy="38124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52"/>
          <p:cNvSpPr/>
          <p:nvPr/>
        </p:nvSpPr>
        <p:spPr>
          <a:xfrm>
            <a:off x="2133720" y="419112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053"/>
          <p:cNvSpPr/>
          <p:nvPr/>
        </p:nvSpPr>
        <p:spPr>
          <a:xfrm>
            <a:off x="4267080" y="41148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054"/>
          <p:cNvSpPr/>
          <p:nvPr/>
        </p:nvSpPr>
        <p:spPr>
          <a:xfrm>
            <a:off x="6400800" y="41148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055"/>
          <p:cNvSpPr/>
          <p:nvPr/>
        </p:nvSpPr>
        <p:spPr>
          <a:xfrm>
            <a:off x="4648320" y="41148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056"/>
          <p:cNvSpPr/>
          <p:nvPr/>
        </p:nvSpPr>
        <p:spPr>
          <a:xfrm>
            <a:off x="2590920" y="41148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057"/>
          <p:cNvSpPr/>
          <p:nvPr/>
        </p:nvSpPr>
        <p:spPr>
          <a:xfrm>
            <a:off x="6858000" y="4267080"/>
            <a:ext cx="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058"/>
          <p:cNvSpPr/>
          <p:nvPr/>
        </p:nvSpPr>
        <p:spPr>
          <a:xfrm>
            <a:off x="2133720" y="5334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059"/>
          <p:cNvSpPr/>
          <p:nvPr/>
        </p:nvSpPr>
        <p:spPr>
          <a:xfrm>
            <a:off x="4267080" y="5334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060"/>
          <p:cNvSpPr/>
          <p:nvPr/>
        </p:nvSpPr>
        <p:spPr>
          <a:xfrm>
            <a:off x="6400800" y="5334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061"/>
          <p:cNvSpPr/>
          <p:nvPr/>
        </p:nvSpPr>
        <p:spPr>
          <a:xfrm>
            <a:off x="1905120" y="4267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062"/>
          <p:cNvSpPr/>
          <p:nvPr/>
        </p:nvSpPr>
        <p:spPr>
          <a:xfrm>
            <a:off x="1905120" y="48769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063"/>
          <p:cNvSpPr/>
          <p:nvPr/>
        </p:nvSpPr>
        <p:spPr>
          <a:xfrm>
            <a:off x="1905120" y="5486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064"/>
          <p:cNvSpPr/>
          <p:nvPr/>
        </p:nvSpPr>
        <p:spPr>
          <a:xfrm>
            <a:off x="1905120" y="6172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065"/>
          <p:cNvSpPr/>
          <p:nvPr/>
        </p:nvSpPr>
        <p:spPr>
          <a:xfrm>
            <a:off x="304920" y="106668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with a conceptual model to which an evaluation design is applied. In the case below a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c model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pplied. Identify program components and show expected connections among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puts (Examples) Resource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F F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and State f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partner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kind contrib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ities (Examples) services, materials, and actions that characterize projec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ruit traditionally underrepresented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rastructure develop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s of extended standards-based professional develop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out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ing by senior scient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hort-Term Outcom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Examp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use of new materi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s of people, products or institutions reached (17 students mentor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resulting from experience (impact on choice of major of research R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ng-Term Outcomes (Examples) Broader more enduring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instructional practice leading to enhanced student learning and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ng a career in NSF-related research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ste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, review, and/or clarify tim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critical achievements and times that need to be m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9" descr="\\Ua\AA\EDUCATION\BAMAED_IBMAPPS\W32APPS\OFFICE2K\cd2\PFiles\MSOffice\Clipart\standard\stddir1\bd05370_.wmf"/>
          <p:cNvPicPr/>
          <p:nvPr/>
        </p:nvPicPr>
        <p:blipFill>
          <a:blip r:embed="rId1"/>
          <a:stretch/>
        </p:blipFill>
        <p:spPr>
          <a:xfrm>
            <a:off x="4952880" y="2209680"/>
            <a:ext cx="344016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. Question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key stakeholders and audiences early to help shape questions. Multiple audiences exist. (Scientists, NSF, students, administration, community 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te potential evaluation questions of interest considering stakeholders and audi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outcomes in measurable terms, including criteria for su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feasibility and prioritize and eliminate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s to consider when developing an evaluation approach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is the information for and who will use the findin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kinds of information are need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is the information to be u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is the information need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resources are available to conduct the evalu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n the answers to the preceding questions, what methods are appropri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fficulties with NSF Project 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le Audience Activ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the ques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the critical areas that define 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tion difficulties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 your projec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Object 1030"/>
          <p:cNvGraphicFramePr/>
          <p:nvPr/>
        </p:nvGraphicFramePr>
        <p:xfrm>
          <a:off x="4648320" y="2511360"/>
          <a:ext cx="3733560" cy="25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11360"/>
                    <a:ext cx="373356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. …Defining Measurable Outco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efly describe the purpose of the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in terms of a general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an objective to be evaluated as clearly as you c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this objective be broken down furth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the objective measurable? If not – re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ce you have completed the above steps, go back to # 3 and write the next objective.  Continue with steps 4, 5, and 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. Develop and Evaluation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a methodological approach and data collection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itative or qualit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to different questions asked, timeframe, skills needed, type of data seen as cred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ho will be studied and 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ing, use of comparison groups, timing, sequencing, frequency of data collection, and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4. Data Col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tain necessary clearance and permi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the needs and sensitivities of the respond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ure your data collectors are adequately trained and will operate in an objective, unbiased ma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tain data from as many members of  your sample as pos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 as little disruption as possible to the ongoing ef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4. Data Collection Sources and Techniq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lists or inven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ng 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antic different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respo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s of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otap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deot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-lapse photo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. Analysis of Dat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01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raw data and prepare data for analy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 initial analysis based on the evaluation pl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 additional analysis based on the initial res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and synthesize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conclusions regarding what the data sh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6. Repor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l Reports typically include six major se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ckgrou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aluation study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aluation proced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ata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ons (and recommend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. Back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ackground section describ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blem or needs ad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terature review (if releva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takeholders and their information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articip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ject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ctivities and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and planned longevity of th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ject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expected measurabl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. Evaluation and Study 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bes and lists the questions the evaluation addres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d for specific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. Evaluation Proced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section describes the groups and  types of data collected and the instruments used for the data collection activities. For 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for identified critical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ings obtained in questionnaires and inter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s of activities from observations of key instrumental components of the proje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ination of extant data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. Dat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bes the techniques used to analyze the data coll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bes the various stages of analysis that were implemen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bes checks that were carried out to make sure that the data were free of as many confounding factors a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ains a discussion of the technique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715788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SF Recognized Common Difficulties with Project Evalua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. Find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nts the results of the analysis described previ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ed in terms of the questions presented in the section on evaluation study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vides a summary that presents the major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. 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orts the findings with more broad-based and summative stat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ments must relate to the findings of the project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evaluation questions ad to the goals of the overall progr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times includes recommendations for NSF or the other undertaking projects similar in goals, focus, and sc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mmendations must be based solely on robust findings that are data-based and not on anecdotal evid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ther Se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Abstract: a summary of the study and its findings presented in approximately one half page of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executive summary: a summary which may be as long as 4 to 10 pages, that provides an overview of the evolution, its findings, and implica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 Repor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or needs ad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keholders and their information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ties and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1532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and planed longevity of th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used to implement th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study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addressed by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that could not be addressed by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ativeness of the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matr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gathering appro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of the analysis organized by study 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-based, summative stat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ations, when applic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seminating th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what various groups need to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manner for communicating information to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ding sources and potential funding sour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thers involved with similar projects or areas of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unity members, especially those who are directly involved with the project or might be involv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bers of the business or political community, etc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inding an Evalu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setting - contact department chairs for availability of staff skilled in project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contractors – department chairs, phone book, state departments, private foundations (Kellogg Foundation in Michigan), and other local colleges and universities will be cognizant of availabl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other researchers or peruse research and evaluation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 of Quantitative and Qualitative Data Collection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 Collection Methods: Some Tips and Comparis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Theoretical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actical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Using the Mixed-Method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SF Diagnosed Difficulties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funding planned for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short a time, (e.g. longer than life of the project, follow grad student for ye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only quantitative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knowledge of evaluation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use information available about what has worked in other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not extended extended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iguous requirements and/or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Theoretical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lue of the type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lative scientific rigor of th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, underlying philosophies of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Practical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dibility of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Using the Mixed-Method Appro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0" y="1676520"/>
            <a:ext cx="8991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hodolo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litati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itati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lit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Collection Approa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Explorato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l Inter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cus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41911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11"/>
          <p:cNvSpPr/>
          <p:nvPr/>
        </p:nvSpPr>
        <p:spPr>
          <a:xfrm>
            <a:off x="6172200" y="25146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14"/>
          <p:cNvSpPr/>
          <p:nvPr/>
        </p:nvSpPr>
        <p:spPr>
          <a:xfrm flipV="1">
            <a:off x="358128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 flipV="1">
            <a:off x="533412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16"/>
          <p:cNvSpPr/>
          <p:nvPr/>
        </p:nvSpPr>
        <p:spPr>
          <a:xfrm flipV="1">
            <a:off x="723888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view and Comparison of Selected Techn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Surv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Focu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Other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Document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Key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Case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Surve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for gathering descriptiv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over a wide range of top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relatively inexpensive t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analyzed using a variety of existing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-report may lead to biased re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may provide a general picture but lack dep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not provide adequate information on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Inter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interviews to answer the following ques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the program look and feel like to the participants? To other stakehold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stakeholders know about the proj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oughts do stakeholders knowledgeable about the program have concerning program operations, processes, and outcom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participant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stakeholder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ecta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features of the project are most salient to the participa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changes do participants perceive in themselves as a result of their involvement in the proj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Inter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yield richest data, details, new insigh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 face-to-face contact with respon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opportunity to explore topics in dep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 interviewer to experience the affective as well as cognitive aspects of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 interviewer to explain or help clarify questions, increasing the likelihood of useful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nsive and time-consu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well-qualified, highly trained interview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ewee may distort information through recall error, selective perceptions, dire to please inter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exibility can result in inconsistencies across intervie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of information vary large; may be difficult to transcribe and reduc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Focus Grou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o use focus grou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and defining problems in project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testing topics or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project strengths, weaknesses, and recomme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ing with interpretation of quantitative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ing perceptions of project outcomes and 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ing new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direct information about behavior of individuals and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 evaluator to enter into and understand situation/contex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good opportunities for identifying unanticipated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 in natural, unstructured, and flexible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sive and time consu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well-qualified, highly trained observers; may need to be content expe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affect behavior of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ve perception of observer may distor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havior or set of behaviors observed may be atyp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objective information on what the test taker knows and can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constructed to match a given curriculum or set of ski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scored in a straightforward ma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accepted by the public as a credible indicator of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oversimplified and superf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very time consu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biased against some groups of test ta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subject to corruption via coaching or che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on has varied definitions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pted definition for NSF Projects: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atic investigation of the worth or merit of an object…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Joint committee on Standards for Education E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Arial"/>
              </a:rPr>
              <a:t>Other Methods – Document Stud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lo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ed in setting and language in which they oc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for determining value, interest, positions, political climate, public attit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information on historical trends or seque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opportunity for study of trends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obtru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in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inaccurate or of questionable authent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ion suitable documents may pose challe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may be time consuming and access may be diffic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Arial"/>
              </a:rPr>
              <a:t>Other Methods – Key Inform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concerning causes, reasons, and/or best approaches is gathered form an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ide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oint of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ce/feedback increases credibility of study pipeline to pivotal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have side benefit to solidify relationships among evaluators, clients participants, and other stak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required to select and get commitment may be substa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 between evaluator and informants may influence type of data obta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nts may interject own biases and impr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greements among individuals may be hard to re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Arial"/>
              </a:rPr>
              <a:t>Other Methods – Case Stud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rich picture of what is happening, as seen through the eyes of many indiv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a through exploration of interactions between treatment and contextual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help explain changes or facilitating factors that might otherwise not emerge form th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 a sophisticated and well-trained data collection and reporting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costly in terms of the demands on time and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cases may be over-interpreted or over-genera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ion Application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Ac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 small groups and assign ro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group members should read the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ple Proposal Outline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n the next set of sli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 the question, Develop an Evaluation Plan for the NSF Project. " What should be considered?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4648320" y="2459160"/>
            <a:ext cx="40384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osal Outlin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Research Propos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72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ER: Fundamental Micromechanics and Materials Dynamics of Thermal Barrier Coating Systems Containing Multiple L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2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Research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240" indent="-7232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240" indent="-7232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240" indent="-7232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240" indent="-7232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nation of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240" indent="-7232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240" indent="-7232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56120" indent="-542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ze the dynamics of th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56120" indent="-542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ing techni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56120" indent="-542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304560" y="286920"/>
            <a:ext cx="83055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ed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-structural Characte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-mechanical Characterization – Nano-ind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lk Mechanical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ual Stresses and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Prior Research Accomplish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Significance and Impact of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Industrial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Education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 the undergraduate curricul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the best undergraduate students to pursue graduate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crease diversity by attracting underrepresented minority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Education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ducation of undergraduate and graduate students in materials and mechanical characterization and laboratory report prepar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undergraduates to pursue graduate wor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ly recruit undergraduate minority stud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eaching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Teaching &amp; Education Accomplish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A Web Site (NASA Opportunities for Visionary Academics) http://education.nasa.gov/no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F (2002). Division of Research, Evaluation and Communication National Science Foundation (2002)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he 2002 User-Friendly Handbook for Project Evaluation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enson, K. (2004). Grant writing in higher education, Boston: Pearson Publish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les, C. (2002)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The first time grant writer's guide to success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usand Oaks CA: Corwin 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rke, M. (2002)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Simplified grant writing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usand Oaks CA: Corwin 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SF (2004). </a:t>
            </a: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A Guide for Proposal Writing nsf04016_Criteria for Evaluation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Intellectual merit and broader impacts. www.nsf.gov/pubs/2004/nsf04016/nsf04016_4.htm 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NSF 02-057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he 2002 User-Friendly Handbook for Project Evalua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 basic guide to quantitative and qualitative evaluation methods for educational proje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NSF 97-15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ser-Friendly Handbook for Mixed Method Evalua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 monograph "initiated to provide more information on qualitative [evaluation] techniques and ... how they can be combined effectively with quantitative measures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Online Evaluation Resource Library (OERL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for NSF's Directorate for Education and Human Resources, a collection of evaluation plans, instruments, reports, glossaries of evaluation terminology, and best practices, with guidance for adapting and implementing evaluation resour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Field-Tested Learning Assessment Guide (FLAG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for Science, Math, Engineering, and Technology Instructors, a collection of "broadly applicable, self-contained modular classroom assessment techniques and discipline-specific tools for ... instructors interested in new approaches to evaluating student learning, attitudes, and performance."</a:t>
            </a: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SF Rationale and Purpose of Conducting Project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 diverse internationally competitive and globally engaged workforce of scientists, engineers, and well-prepared citizen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discoveries across the frontiers of science and engineering connected to learning, innovations, and service to society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ing broadly accessible, state-of-the-art information bases and shared research and education t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al Science Foundation Project Evaluation and Assessme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240" y="373392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nis W. Su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an E. Th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abama Science Teach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Learn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astlc.ua.ed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Alaba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NSF Thinks About Evaluati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onent that is an integral part of the research and development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not something that comes at the end of th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 continuous process that begins during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is regularly and iteratively performed during the project and is completed at the end of th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questions are appropriate at different phases of th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9:59:13Z</dcterms:created>
  <dc:creator>sthomas</dc:creator>
  <dc:description/>
  <dc:language>en-US</dc:language>
  <cp:lastModifiedBy>Heather Beal</cp:lastModifiedBy>
  <dcterms:modified xsi:type="dcterms:W3CDTF">2011-04-16T08:00:00Z</dcterms:modified>
  <cp:revision>48</cp:revision>
  <dc:subject/>
  <dc:title>Evaluation and Assessment of National Science Foundation Projects</dc:title>
</cp:coreProperties>
</file>